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EA7-501D-47D9-A294-090BD550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4D7-194C-4536-A7F7-0022C5BB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A6E-5207-49BC-8259-3149BE2F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7C4-43CE-4674-8451-086056DC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99F-A3BC-449D-A198-F3AAC500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D0D-9DC1-4BEF-8054-756AE78E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E94-1EB0-49DF-8491-600EFE3D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138-70BD-460B-A007-DE4328B8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9EB-A7AC-4473-9D2C-2F67465F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B8E-1CF5-419E-9A59-E4953FCC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1F5-D217-4154-888E-EAA7DBE3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A28-1603-4541-A9C1-FA7D65D5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B542-6E39-4229-9F22-3213D5EE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nsterenergy.com/web/guest/noflash?url=http%3A%2F%2Fwww.monsterenergy.com%2Fweb%2Fguest%2Fhome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MONSTER ENERGIZED!!!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Question?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What are peoples favorite Monster Energy drink?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I think that people will like Assault the best. Because it is cherry flavored and everyone likes cherry.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1. Collect all materials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2. Take one tester into a testing room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3. Have the tester drink one of the flavors of monster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4. After they drink the monster have them take a drink of water to get rid of the last taste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5. Then repeat steps 3 and 4 with that person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6. After that do steps 3 through 5 with the other testers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7. Finally gather result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Independent Variable- The different flavors.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Dependent Variable- Which flavor they choose.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ntrolled Variable- The same kind of Monster for every person.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Major Observations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Heath- Green, Khaos, Assult. 2nd- Green, Assult, Khaos. </a:t>
            </a: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Jed- Assult, Green, Khaos. 2nd- Green, Assult, Khaos. </a:t>
            </a: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Micheal- Assult, Khaos, Green. 2nd- Assult, Khaos, Green. </a:t>
            </a: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Hunter- Khaos, Green, Assult. 2nd- Khaos, Green, Assult. </a:t>
            </a: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rey- Green, Assult, Khaos. 2nd- Green, Assult, Khaos.</a:t>
            </a: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Wyatt- Assult, Khaos, Green. 2nd- Assult Green Assult.</a:t>
            </a:r>
            <a:br>
              <a:rPr sz="2800"/>
            </a:br>
            <a:endParaRPr b="0" lang="en-US" sz="28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My hypothesis was correct 3 out of 6 liked Assault the best. Then Khaos was 2nd again 3 out of 6 people liked it second. The rest were not consistent.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auses Of Error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People have a favorite kind that they already drink. 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URL’S</a:t>
            </a:r>
            <a:endParaRPr b="0" lang="en-US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nsterenergy.com/web/guest/noflash?url=http%3A%2F%2Fwww.monsterenergy.com%2Fweb%2Fguest%2Fhome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http://en.wikipedia.org/wiki/Monster_Energy</a:t>
            </a:r>
            <a:endParaRPr b="0" lang="en-US" sz="32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17:08Z</dcterms:created>
  <dc:creator>USD376</dc:creator>
  <dc:description/>
  <dc:language>en-US</dc:language>
  <cp:lastModifiedBy>USD376</cp:lastModifiedBy>
  <dcterms:modified xsi:type="dcterms:W3CDTF">2010-03-02T16:08:04Z</dcterms:modified>
  <cp:revision>4</cp:revision>
  <dc:subject/>
  <dc:title>MONSTER ENERGIZED!!!</dc:title>
</cp:coreProperties>
</file>